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E00-98B4-4B53-8B90-E63A9DAD8E7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4644-2369-432A-B67E-C7A5625BDC3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A163-9470-410F-9DB6-C675B948E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E49C-04E2-432D-8249-A979D0228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88BE-6A40-4E9D-8B20-05BDFE607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C4A3-FA5B-42B2-ADDF-0EFD309D38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9CCE-136F-4C72-9396-6D8B73728A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CFA9-BBD2-4167-8F74-8362C3761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98F5-5612-418D-8F89-E78BF35A6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E5A1-7543-46AF-BC83-00D375FA0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548D-A85A-4DBB-9788-9EA2CB061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EC08-D6CC-483F-AE27-514CC03B8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FC87-72BB-4C8A-88CB-32E82ED8B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1256-35D0-4676-8E44-CAE9C0D3A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00CD-4A8A-4650-B5D7-42FEC987F3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164E-A6C5-4EE5-94CE-EF449261EA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F44B-ABCE-4058-B1D7-8614E46CF1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mple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following sample solutions and decide if they are a good solution (based on your group’s decision about what a good answer looks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1493-5070-47F4-90AC-229662D362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Different Le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Generaliz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catio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explore our sample solutions through this different lens.  Determine where the solutions fit using these frame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C3D0-8AD7-4BBE-BAD1-9B5E85C13F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eneralization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a picture or constructing a model to represent the situation to count the desired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the previous term or terms in the sequence to determine subsequent terms (Additive think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-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a portion as a unit to construct a larger unit by multiplying. There may or may not be an appropriate adjustment for over-or-undercoun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-and-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ing a rule without regard to why this rule might work. Usually this involves experimenting with various operations and numbers provided in the problem situ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ng an explicit rule that expresses the co-variation of two sets of data, based on information provided in the situation. An explicit rule can allow for the prediction of any term number in the patter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ustification Frame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3124080"/>
                <a:gridCol w="510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ific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0: No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s do not address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1: Appeal to external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is made to the correctness stated by some other individual or reference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2: Empirical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fication is provided through the correctness of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ul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3: Generic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uctive justification is expressed for a particular inst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4: Deductive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ity is given through a deductive argument that is independent of particular in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feel about these fram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se frameworks match your success crite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(frameworks/success criteria) is more beneficial for students?  tea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FDAD-FD71-49B6-8E90-9E723CA694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F726-E48D-4635-B023-796F3504D1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r 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different representations of patterns and discover that different representations bring about different mathematical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erience creating learning goals, success criteria and consolidat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0930-4CAC-47FC-8730-2B4FF94C54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86F0-B0FA-42A7-A08B-E91D042381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E:\Beach Images\Landscapes (A - Ci)\Beach Scene 27.wmf"/>
          <p:cNvPicPr/>
          <p:nvPr/>
        </p:nvPicPr>
        <p:blipFill>
          <a:blip r:embed="rId2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ack to the mat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handout individ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with your table when everyone has fini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450E-5A6D-454A-A052-7236FDBC64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1B0C-C58A-4A04-A13C-FA8B014D51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:\Beach Images\Beach &amp; Water (K - P)\Man with Toy Boat.wmf"/>
          <p:cNvPicPr/>
          <p:nvPr/>
        </p:nvPicPr>
        <p:blipFill>
          <a:blip r:embed="rId1"/>
          <a:stretch/>
        </p:blipFill>
        <p:spPr>
          <a:xfrm>
            <a:off x="2235240" y="2303640"/>
            <a:ext cx="4672080" cy="225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E:\Beach Images\Landscapes (A - Ci)\Beach Scene 27.wmf"/>
          <p:cNvPicPr/>
          <p:nvPr/>
        </p:nvPicPr>
        <p:blipFill>
          <a:blip r:embed="rId2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ard So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receiving a card which contains a representation of a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 is to find all the people that have a different representation of your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iscuss which representation you find the most clear and which ones you are the most/least comfortable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EF87-1D35-4A95-91C3-1888AEEC5B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our learning goal was for that 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we achiev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DE28-02BE-45B1-811F-181BA4361E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E:\Beach Images\Beach &amp; Water (K - P)\Kayaking - No Paddle.wmf"/>
          <p:cNvPicPr/>
          <p:nvPr/>
        </p:nvPicPr>
        <p:blipFill>
          <a:blip r:embed="rId2"/>
          <a:stretch/>
        </p:blipFill>
        <p:spPr>
          <a:xfrm>
            <a:off x="4495680" y="2590920"/>
            <a:ext cx="265752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Table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how you would solve the problem on your own (3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 up and solve the problem in 2 different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2A83-E457-4D16-B220-3BF596E55F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3962520" y="3886200"/>
            <a:ext cx="2882520" cy="1359000"/>
            <a:chOff x="3962520" y="3886200"/>
            <a:chExt cx="2882520" cy="1359000"/>
          </a:xfrm>
        </p:grpSpPr>
        <p:sp>
          <p:nvSpPr>
            <p:cNvPr id="71" name="AutoShape 17"/>
            <p:cNvSpPr/>
            <p:nvPr/>
          </p:nvSpPr>
          <p:spPr>
            <a:xfrm>
              <a:off x="4165560" y="4203720"/>
              <a:ext cx="1447560" cy="698400"/>
            </a:xfrm>
            <a:custGeom>
              <a:avLst/>
              <a:gdLst>
                <a:gd name="textAreaLeft" fmla="*/ 301320 w 1447560"/>
                <a:gd name="textAreaRight" fmla="*/ 1146240 w 1447560"/>
                <a:gd name="textAreaTop" fmla="*/ 145440 h 698400"/>
                <a:gd name="textAreaBottom" fmla="*/ 5529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8"/>
            <p:cNvSpPr/>
            <p:nvPr/>
          </p:nvSpPr>
          <p:spPr>
            <a:xfrm flipV="1">
              <a:off x="5245200" y="4203720"/>
              <a:ext cx="1447560" cy="698400"/>
            </a:xfrm>
            <a:custGeom>
              <a:avLst/>
              <a:gdLst>
                <a:gd name="textAreaLeft" fmla="*/ 301320 w 1447560"/>
                <a:gd name="textAreaRight" fmla="*/ 1146240 w 1447560"/>
                <a:gd name="textAreaTop" fmla="*/ 145440 h 698400"/>
                <a:gd name="textAreaBottom" fmla="*/ 5529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9"/>
            <p:cNvSpPr/>
            <p:nvPr/>
          </p:nvSpPr>
          <p:spPr>
            <a:xfrm>
              <a:off x="3962520" y="449568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0"/>
            <p:cNvSpPr/>
            <p:nvPr/>
          </p:nvSpPr>
          <p:spPr>
            <a:xfrm>
              <a:off x="4749840" y="4991040"/>
              <a:ext cx="21564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1"/>
            <p:cNvSpPr/>
            <p:nvPr/>
          </p:nvSpPr>
          <p:spPr>
            <a:xfrm>
              <a:off x="5524560" y="50166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2"/>
            <p:cNvSpPr/>
            <p:nvPr/>
          </p:nvSpPr>
          <p:spPr>
            <a:xfrm>
              <a:off x="6210360" y="5016600"/>
              <a:ext cx="2160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3"/>
            <p:cNvSpPr/>
            <p:nvPr/>
          </p:nvSpPr>
          <p:spPr>
            <a:xfrm>
              <a:off x="6629400" y="43686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4"/>
            <p:cNvSpPr/>
            <p:nvPr/>
          </p:nvSpPr>
          <p:spPr>
            <a:xfrm>
              <a:off x="4419720" y="39240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5"/>
            <p:cNvSpPr/>
            <p:nvPr/>
          </p:nvSpPr>
          <p:spPr>
            <a:xfrm>
              <a:off x="5092560" y="3911400"/>
              <a:ext cx="2160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6"/>
            <p:cNvSpPr/>
            <p:nvPr/>
          </p:nvSpPr>
          <p:spPr>
            <a:xfrm>
              <a:off x="5918400" y="3886200"/>
              <a:ext cx="21564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es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hart paper, deter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ectation(s) (Grade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5457-C017-41A2-922B-AE7D838BB2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are you looking for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etermine what a good answer to the table problem would look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4EAB-77D4-4CE6-9A50-CB2CE48ECA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etermine what a good consolidating question would be to determine that your learning goal has been rea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8015-04C5-48F7-80D5-D82B102DF8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witc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chart papers with anothe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y similar? 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208E-C137-4ECE-92DA-C6BC606C80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Erik Teather</cp:lastModifiedBy>
  <dcterms:modified xsi:type="dcterms:W3CDTF">2011-07-31T01:19:00Z</dcterms:modified>
  <cp:revision>36</cp:revision>
  <dc:subject/>
  <dc:title>&lt;Title&gt;</dc:title>
</cp:coreProperties>
</file>